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6.png" ContentType="image/png"/>
  <Override PartName="/ppt/media/image25.png" ContentType="image/png"/>
  <Override PartName="/ppt/media/image19.jpeg" ContentType="image/jpeg"/>
  <Override PartName="/ppt/media/image22.png" ContentType="image/png"/>
  <Override PartName="/ppt/media/image2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3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28.png" ContentType="image/png"/>
  <Override PartName="/ppt/media/image30.png" ContentType="image/png"/>
  <Override PartName="/ppt/media/image37.jpeg" ContentType="image/jpeg"/>
  <Override PartName="/ppt/media/image42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2.wmf" ContentType="image/x-wmf"/>
  <Override PartName="/ppt/media/image29.png" ContentType="image/png"/>
  <Override PartName="/ppt/media/image1.png" ContentType="image/png"/>
  <Override PartName="/ppt/media/image31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13.jpeg" ContentType="image/jpeg"/>
  <Override PartName="/ppt/media/image23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9268B2-55A0-4139-9C14-0A6362C39A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96840"/>
            <a:ext cx="746460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46460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746460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B44A41-D72B-496B-B039-ED137A4A77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96840"/>
            <a:ext cx="746460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248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1840" y="1599840"/>
            <a:ext cx="364248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364248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1840" y="3962160"/>
            <a:ext cx="364248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A21189-DBCC-49A2-A666-937EAC0340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96840"/>
            <a:ext cx="746460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03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0800" y="1599840"/>
            <a:ext cx="2403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4760" y="1599840"/>
            <a:ext cx="2403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403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0800" y="3962160"/>
            <a:ext cx="2403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4760" y="3962160"/>
            <a:ext cx="2403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EECD0F-DC09-4648-AF97-7358794690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0F3916-8E20-4AEA-9948-8A3C4685E55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96840"/>
            <a:ext cx="746460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46460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CEF3B9-5640-4C12-81C8-21FC25B8D4D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96840"/>
            <a:ext cx="746460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46460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282131-8A4E-401F-956E-28024B64996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96840"/>
            <a:ext cx="746460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248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281840" y="1599840"/>
            <a:ext cx="364248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421C74-335D-4539-88A9-55A2AEF8F74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96840"/>
            <a:ext cx="746460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61E8BE-3F3F-4767-A2E7-BA89EAD6647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6840" y="96840"/>
            <a:ext cx="7464600" cy="692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032790-58F0-41AF-A792-6EB70975DE3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96840"/>
            <a:ext cx="746460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248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281840" y="1599840"/>
            <a:ext cx="364248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364248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04FFC6-800C-4BFE-B1B5-E38660B2A17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96840"/>
            <a:ext cx="746460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46460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6F18F2-27F6-4552-BFA4-E7CD1AE9A8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96840"/>
            <a:ext cx="746460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248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281840" y="1599840"/>
            <a:ext cx="364248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281840" y="3962160"/>
            <a:ext cx="364248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828477-6225-4A42-A3A6-C2C13E527E4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96840"/>
            <a:ext cx="746460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248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281840" y="1599840"/>
            <a:ext cx="364248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746460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E5CF0D-90ED-4EF3-8238-C66F1E0EAAA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96840"/>
            <a:ext cx="746460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46460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746460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386BE7-7746-4D6F-8DE6-8173047A077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96840"/>
            <a:ext cx="746460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248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1840" y="1599840"/>
            <a:ext cx="364248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364248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281840" y="3962160"/>
            <a:ext cx="364248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0724CF-4953-41EF-AFC3-C70B3016E19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96840"/>
            <a:ext cx="746460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03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2980800" y="1599840"/>
            <a:ext cx="2403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504760" y="1599840"/>
            <a:ext cx="2403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403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2980800" y="3962160"/>
            <a:ext cx="2403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504760" y="3962160"/>
            <a:ext cx="2403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0A10EB-29CE-4A54-83DB-FFE07FCF5E21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2F4BE-8A6D-46DD-A18C-D6CC589C38F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96840"/>
            <a:ext cx="746460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46460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786E3-E7DA-4FF0-8303-2255363027E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96840"/>
            <a:ext cx="746460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46460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A48A7-A379-4213-9D7A-0B92D9BE4FB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96840"/>
            <a:ext cx="746460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248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281840" y="1599840"/>
            <a:ext cx="364248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8F2F9-3F72-4888-837D-DB873F54FAE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96840"/>
            <a:ext cx="746460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C3AC1-5819-4CD0-B75D-F399A5E950E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96840"/>
            <a:ext cx="746460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46460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F217E0-5BEA-4B99-9994-DA48BB761B1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6840" y="96840"/>
            <a:ext cx="7464600" cy="692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A2046-45D9-4CE2-99A1-EDBA354AF77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96840"/>
            <a:ext cx="746460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248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281840" y="1599840"/>
            <a:ext cx="364248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364248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E5901-735E-4004-A81F-B98D90E7324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96840"/>
            <a:ext cx="746460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248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281840" y="1599840"/>
            <a:ext cx="364248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81840" y="3962160"/>
            <a:ext cx="364248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4C108-3128-4CBE-A3FA-86C015FD791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96840"/>
            <a:ext cx="746460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248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281840" y="1599840"/>
            <a:ext cx="364248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746460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B01DA-0035-460C-919B-C64ACC20F70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96840"/>
            <a:ext cx="746460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46460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746460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0E4D5-DD6A-4504-9103-2B2DF3305B2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96840"/>
            <a:ext cx="746460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248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281840" y="1599840"/>
            <a:ext cx="364248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364248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281840" y="3962160"/>
            <a:ext cx="364248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551C2-DAB9-4E95-ADFD-5E721FE1DBA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96840"/>
            <a:ext cx="746460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03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2980800" y="1599840"/>
            <a:ext cx="2403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504760" y="1599840"/>
            <a:ext cx="2403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403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2980800" y="3962160"/>
            <a:ext cx="2403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5504760" y="3962160"/>
            <a:ext cx="2403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C2C2E-7CB6-46B0-8645-D1BDCF9750FA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211FCC-88F4-4E54-915C-EAC680194F4D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96840"/>
            <a:ext cx="746460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46460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D0F28B-F742-4735-994F-433D73D194CE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96840"/>
            <a:ext cx="746460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46460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312158-FEC6-4CF0-A336-1D6B381B9F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96840"/>
            <a:ext cx="746460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248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1840" y="1599840"/>
            <a:ext cx="364248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4B8976-9181-4D93-9B57-D716C15FE44C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96840"/>
            <a:ext cx="746460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248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281840" y="1599840"/>
            <a:ext cx="364248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41974F-8163-408C-A198-DB0F2853F69F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96840"/>
            <a:ext cx="746460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CC495D-76A3-4D6D-BAD2-EFAA3F9C0AC9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56840" y="96840"/>
            <a:ext cx="7464600" cy="692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DFFB2E-9298-4C19-8F5E-81EB7AF3A8EC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96840"/>
            <a:ext cx="746460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248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281840" y="1599840"/>
            <a:ext cx="364248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364248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C1B4C5-92A0-4844-9961-D7AE8DD2C9FF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6840" y="96840"/>
            <a:ext cx="746460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248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281840" y="1599840"/>
            <a:ext cx="364248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281840" y="3962160"/>
            <a:ext cx="364248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C5CB5D-57B3-4911-A668-4FA612F14282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96840"/>
            <a:ext cx="746460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248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281840" y="1599840"/>
            <a:ext cx="364248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746460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8DB6B0-DBF9-4950-8F51-3E3723D18330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96840"/>
            <a:ext cx="746460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46460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746460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C16F36-ED09-479C-9E41-B83B0CF58DED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96840"/>
            <a:ext cx="746460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248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281840" y="1599840"/>
            <a:ext cx="364248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364248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281840" y="3962160"/>
            <a:ext cx="364248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A6F535-14F7-4295-BE79-B51D60E1D3AB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96840"/>
            <a:ext cx="746460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03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2980800" y="1599840"/>
            <a:ext cx="2403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504760" y="1599840"/>
            <a:ext cx="2403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403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2980800" y="3962160"/>
            <a:ext cx="2403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5504760" y="3962160"/>
            <a:ext cx="2403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A16F86-D5AF-4D0B-9082-D3B6D32E99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96840"/>
            <a:ext cx="746460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10EB25-10E9-4FB8-A929-0D90DC2994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96840"/>
            <a:ext cx="7464600" cy="692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502CB5-24FD-4B7E-BE9E-EA7D516388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96840"/>
            <a:ext cx="746460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248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1840" y="1599840"/>
            <a:ext cx="364248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364248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3E9948-FABD-48EA-AF1A-1BAA06FD4E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96840"/>
            <a:ext cx="746460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248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1840" y="1599840"/>
            <a:ext cx="364248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1840" y="3962160"/>
            <a:ext cx="364248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A8630E-2554-40BA-B595-A0A62CCD86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96840"/>
            <a:ext cx="746460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248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1840" y="1599840"/>
            <a:ext cx="364248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746460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2C4069-B16A-4B4B-8236-BF4CD3EB6D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d7d7d"/>
            </a:gs>
            <a:gs pos="100000">
              <a:srgbClr val="242424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96840"/>
            <a:ext cx="746460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46460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57200" y="641988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"/>
          <p:cNvSpPr/>
          <p:nvPr/>
        </p:nvSpPr>
        <p:spPr>
          <a:xfrm>
            <a:off x="3124080" y="641988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1"/>
          </p:nvPr>
        </p:nvSpPr>
        <p:spPr>
          <a:xfrm>
            <a:off x="8153280" y="6419520"/>
            <a:ext cx="758880" cy="3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fld id="{8889AD16-9D68-49EE-B2F3-2047C9B041C6}" type="slidenum">
              <a:rPr b="0" lang="en-US" sz="1000" spc="-1" strike="noStrike">
                <a:solidFill>
                  <a:srgbClr val="9b9a98"/>
                </a:solidFill>
                <a:latin typeface="Times New Roman"/>
                <a:ea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6840" y="96840"/>
            <a:ext cx="746460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46460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641988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"/>
          <p:cNvSpPr/>
          <p:nvPr/>
        </p:nvSpPr>
        <p:spPr>
          <a:xfrm>
            <a:off x="3124080" y="641988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2"/>
          </p:nvPr>
        </p:nvSpPr>
        <p:spPr>
          <a:xfrm>
            <a:off x="8153280" y="6419520"/>
            <a:ext cx="758880" cy="3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fld id="{86C921B5-A08D-44C7-8DED-CCD7BA35CE95}" type="slidenum">
              <a:rPr b="0" lang="en-US" sz="1000" spc="-1" strike="noStrike">
                <a:solidFill>
                  <a:srgbClr val="9b9a98"/>
                </a:solidFill>
                <a:latin typeface="Times New Roman"/>
                <a:ea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6840" y="96840"/>
            <a:ext cx="746460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46460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200" y="641988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3124080" y="641988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Num" idx="3"/>
          </p:nvPr>
        </p:nvSpPr>
        <p:spPr>
          <a:xfrm>
            <a:off x="8156520" y="6419520"/>
            <a:ext cx="758880" cy="3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fld id="{BE923C09-D5AA-44E6-B39F-7C4A449BF125}" type="slidenum">
              <a:rPr b="0" lang="en-US" sz="1000" spc="-1" strike="noStrike">
                <a:solidFill>
                  <a:srgbClr val="9b9a98"/>
                </a:solidFill>
                <a:latin typeface="Times New Roman"/>
                <a:ea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96840"/>
            <a:ext cx="746460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46460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57200" y="641988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"/>
          <p:cNvSpPr/>
          <p:nvPr/>
        </p:nvSpPr>
        <p:spPr>
          <a:xfrm>
            <a:off x="3124080" y="641988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4"/>
          </p:nvPr>
        </p:nvSpPr>
        <p:spPr>
          <a:xfrm>
            <a:off x="8153280" y="6419520"/>
            <a:ext cx="758880" cy="3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fld id="{AB001A59-AD06-4406-8A16-37CA61454A29}" type="slidenum">
              <a:rPr b="0" lang="en-US" sz="1000" spc="-1" strike="noStrike">
                <a:solidFill>
                  <a:srgbClr val="9b9a98"/>
                </a:solidFill>
                <a:latin typeface="Times New Roman"/>
                <a:ea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jpeg"/><Relationship Id="rId3" Type="http://schemas.openxmlformats.org/officeDocument/2006/relationships/image" Target="../media/image38.png"/><Relationship Id="rId4" Type="http://schemas.openxmlformats.org/officeDocument/2006/relationships/image" Target="../media/image39.png"/><Relationship Id="rId5" Type="http://schemas.openxmlformats.org/officeDocument/2006/relationships/image" Target="../media/image40.png"/><Relationship Id="rId6" Type="http://schemas.openxmlformats.org/officeDocument/2006/relationships/image" Target="../media/image41.png"/><Relationship Id="rId7" Type="http://schemas.openxmlformats.org/officeDocument/2006/relationships/image" Target="../media/image42.pn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jpe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a0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" name=""/>
          <p:cNvGrpSpPr/>
          <p:nvPr/>
        </p:nvGrpSpPr>
        <p:grpSpPr>
          <a:xfrm>
            <a:off x="1143000" y="1371600"/>
            <a:ext cx="6397560" cy="2739960"/>
            <a:chOff x="1143000" y="1371600"/>
            <a:chExt cx="6397560" cy="2739960"/>
          </a:xfrm>
        </p:grpSpPr>
        <p:pic>
          <p:nvPicPr>
            <p:cNvPr id="169" name="" descr=""/>
            <p:cNvPicPr/>
            <p:nvPr/>
          </p:nvPicPr>
          <p:blipFill>
            <a:blip r:embed="rId1"/>
            <a:stretch/>
          </p:blipFill>
          <p:spPr>
            <a:xfrm>
              <a:off x="1143000" y="1371600"/>
              <a:ext cx="6397560" cy="273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0" name=""/>
            <p:cNvSpPr/>
            <p:nvPr/>
          </p:nvSpPr>
          <p:spPr>
            <a:xfrm>
              <a:off x="1143000" y="1371600"/>
              <a:ext cx="6397560" cy="273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457200" y="2743200"/>
            <a:ext cx="64800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4572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By: Kianna Hopkin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1285920" y="1017720"/>
            <a:ext cx="1149480" cy="117468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3"/>
          <a:stretch/>
        </p:blipFill>
        <p:spPr>
          <a:xfrm>
            <a:off x="-333360" y="-114480"/>
            <a:ext cx="133200" cy="3193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1371600" y="4572000"/>
            <a:ext cx="2619360" cy="174312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2743200" y="304920"/>
            <a:ext cx="373392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Franklin Gothic Book"/>
              </a:rPr>
              <a:t>Desert Biome</a:t>
            </a:r>
            <a:endParaRPr b="0" lang="en-US" sz="4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"/>
          <p:cNvSpPr/>
          <p:nvPr/>
        </p:nvSpPr>
        <p:spPr>
          <a:xfrm>
            <a:off x="45720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15800" indent="-380880">
              <a:lnSpc>
                <a:spcPct val="100000"/>
              </a:lnSpc>
              <a:spcBef>
                <a:spcPts val="451"/>
              </a:spcBef>
              <a:buClr>
                <a:srgbClr val="00ffff"/>
              </a:buClr>
              <a:buFont typeface="Wingdings 2" charset="2"/>
              <a:buChar char=""/>
              <a:tabLst>
                <a:tab algn="l" pos="415800"/>
                <a:tab algn="l" pos="873000"/>
                <a:tab algn="l" pos="1330200"/>
                <a:tab algn="l" pos="1787400"/>
                <a:tab algn="l" pos="2244600"/>
                <a:tab algn="l" pos="2701800"/>
                <a:tab algn="l" pos="3159000"/>
                <a:tab algn="l" pos="3616200"/>
                <a:tab algn="l" pos="4073400"/>
                <a:tab algn="l" pos="4530600"/>
                <a:tab algn="l" pos="4987800"/>
                <a:tab algn="l" pos="5445000"/>
                <a:tab algn="l" pos="5902200"/>
                <a:tab algn="l" pos="6359400"/>
                <a:tab algn="l" pos="6816600"/>
                <a:tab algn="l" pos="7273800"/>
                <a:tab algn="l" pos="7731000"/>
                <a:tab algn="l" pos="8188200"/>
                <a:tab algn="l" pos="8645400"/>
                <a:tab algn="l" pos="9102600"/>
                <a:tab algn="l" pos="95598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d0d0d"/>
                </a:solidFill>
                <a:latin typeface="Arial"/>
              </a:rPr>
              <a:t>There are deserts found in western Australia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415800" indent="-380880"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Font typeface="Wingdings 2" charset="2"/>
              <a:buChar char=""/>
              <a:tabLst>
                <a:tab algn="l" pos="415800"/>
                <a:tab algn="l" pos="873000"/>
                <a:tab algn="l" pos="1330200"/>
                <a:tab algn="l" pos="1787400"/>
                <a:tab algn="l" pos="2244600"/>
                <a:tab algn="l" pos="2701800"/>
                <a:tab algn="l" pos="3159000"/>
                <a:tab algn="l" pos="3616200"/>
                <a:tab algn="l" pos="4073400"/>
                <a:tab algn="l" pos="4530600"/>
                <a:tab algn="l" pos="4987800"/>
                <a:tab algn="l" pos="5445000"/>
                <a:tab algn="l" pos="5902200"/>
                <a:tab algn="l" pos="6359400"/>
                <a:tab algn="l" pos="6816600"/>
                <a:tab algn="l" pos="7273800"/>
                <a:tab algn="l" pos="7731000"/>
                <a:tab algn="l" pos="8188200"/>
                <a:tab algn="l" pos="8645400"/>
                <a:tab algn="l" pos="9102600"/>
                <a:tab algn="l" pos="95598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d0d0d"/>
                </a:solidFill>
                <a:latin typeface="Arial"/>
              </a:rPr>
              <a:t>Not all deserts that you go to or see have sand dun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415800" indent="-380880"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Font typeface="Wingdings 2" charset="2"/>
              <a:buChar char=""/>
              <a:tabLst>
                <a:tab algn="l" pos="415800"/>
                <a:tab algn="l" pos="873000"/>
                <a:tab algn="l" pos="1330200"/>
                <a:tab algn="l" pos="1787400"/>
                <a:tab algn="l" pos="2244600"/>
                <a:tab algn="l" pos="2701800"/>
                <a:tab algn="l" pos="3159000"/>
                <a:tab algn="l" pos="3616200"/>
                <a:tab algn="l" pos="4073400"/>
                <a:tab algn="l" pos="4530600"/>
                <a:tab algn="l" pos="4987800"/>
                <a:tab algn="l" pos="5445000"/>
                <a:tab algn="l" pos="5902200"/>
                <a:tab algn="l" pos="6359400"/>
                <a:tab algn="l" pos="6816600"/>
                <a:tab algn="l" pos="7273800"/>
                <a:tab algn="l" pos="7731000"/>
                <a:tab algn="l" pos="8188200"/>
                <a:tab algn="l" pos="8645400"/>
                <a:tab algn="l" pos="9102600"/>
                <a:tab algn="l" pos="95598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d0d0d"/>
                </a:solidFill>
                <a:latin typeface="Arial"/>
              </a:rPr>
              <a:t>Deserts receive less than 25 cm. of rain or snow each yea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415800" indent="-380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15800"/>
                <a:tab algn="l" pos="873000"/>
                <a:tab algn="l" pos="1330200"/>
                <a:tab algn="l" pos="1787400"/>
                <a:tab algn="l" pos="2244600"/>
                <a:tab algn="l" pos="2701800"/>
                <a:tab algn="l" pos="3159000"/>
                <a:tab algn="l" pos="3616200"/>
                <a:tab algn="l" pos="4073400"/>
                <a:tab algn="l" pos="4530600"/>
                <a:tab algn="l" pos="4987800"/>
                <a:tab algn="l" pos="5445000"/>
                <a:tab algn="l" pos="5902200"/>
                <a:tab algn="l" pos="6359400"/>
                <a:tab algn="l" pos="6816600"/>
                <a:tab algn="l" pos="7273800"/>
                <a:tab algn="l" pos="7731000"/>
                <a:tab algn="l" pos="8188200"/>
                <a:tab algn="l" pos="8645400"/>
                <a:tab algn="l" pos="9102600"/>
                <a:tab algn="l" pos="95598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2"/>
          <a:stretch/>
        </p:blipFill>
        <p:spPr>
          <a:xfrm>
            <a:off x="227160" y="2970360"/>
            <a:ext cx="2095200" cy="209520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3"/>
          <a:stretch/>
        </p:blipFill>
        <p:spPr>
          <a:xfrm>
            <a:off x="2262240" y="2766960"/>
            <a:ext cx="2057400" cy="205740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/>
          <p:cNvPicPr/>
          <p:nvPr/>
        </p:nvPicPr>
        <p:blipFill>
          <a:blip r:embed="rId4"/>
          <a:stretch/>
        </p:blipFill>
        <p:spPr>
          <a:xfrm>
            <a:off x="4572000" y="2743200"/>
            <a:ext cx="4572000" cy="388620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5519880" y="4583160"/>
            <a:ext cx="1600200" cy="137160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2286000" y="4102200"/>
            <a:ext cx="373392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ranklin Gothic Book"/>
              </a:rPr>
              <a:t>Thank you for l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6" name=""/>
          <p:cNvSpPr/>
          <p:nvPr/>
        </p:nvSpPr>
        <p:spPr>
          <a:xfrm>
            <a:off x="228600" y="1143000"/>
            <a:ext cx="8686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19040" indent="-37944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419040"/>
                <a:tab algn="l" pos="876240"/>
                <a:tab algn="l" pos="1333440"/>
                <a:tab algn="l" pos="1790640"/>
                <a:tab algn="l" pos="2247840"/>
                <a:tab algn="l" pos="2705040"/>
                <a:tab algn="l" pos="3162240"/>
                <a:tab algn="l" pos="3619440"/>
                <a:tab algn="l" pos="4076640"/>
                <a:tab algn="l" pos="4533840"/>
                <a:tab algn="l" pos="4991040"/>
                <a:tab algn="l" pos="5448240"/>
                <a:tab algn="l" pos="5905440"/>
                <a:tab algn="l" pos="6362640"/>
                <a:tab algn="l" pos="6819840"/>
                <a:tab algn="l" pos="7277040"/>
                <a:tab algn="l" pos="7734240"/>
                <a:tab algn="l" pos="8191440"/>
                <a:tab algn="l" pos="8648640"/>
                <a:tab algn="l" pos="9105840"/>
                <a:tab algn="l" pos="9563040"/>
                <a:tab algn="l" pos="9601200"/>
                <a:tab algn="l" pos="10058400"/>
                <a:tab algn="l" pos="10515600"/>
              </a:tabLst>
            </a:pPr>
            <a:r>
              <a:rPr b="0" lang="en-US" sz="9600" spc="-1" strike="noStrike">
                <a:solidFill>
                  <a:srgbClr val="00ffff"/>
                </a:solidFill>
                <a:latin typeface="comic"/>
              </a:rPr>
              <a:t>END OF SHOW</a:t>
            </a:r>
            <a:endParaRPr b="0" lang="en-US" sz="9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2"/>
          <a:stretch/>
        </p:blipFill>
        <p:spPr>
          <a:xfrm>
            <a:off x="5546880" y="4343400"/>
            <a:ext cx="1295280" cy="74304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/>
          <p:nvPr/>
        </p:nvSpPr>
        <p:spPr>
          <a:xfrm>
            <a:off x="6858000" y="438624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king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295280" cy="1352520"/>
          </a:xfrm>
          <a:prstGeom prst="rect">
            <a:avLst/>
          </a:prstGeom>
          <a:ln w="0">
            <a:noFill/>
          </a:ln>
        </p:spPr>
      </p:pic>
      <p:pic>
        <p:nvPicPr>
          <p:cNvPr id="280" name="" descr=""/>
          <p:cNvPicPr/>
          <p:nvPr/>
        </p:nvPicPr>
        <p:blipFill>
          <a:blip r:embed="rId4"/>
          <a:stretch/>
        </p:blipFill>
        <p:spPr>
          <a:xfrm>
            <a:off x="7705800" y="5438880"/>
            <a:ext cx="1438200" cy="1419120"/>
          </a:xfrm>
          <a:prstGeom prst="rect">
            <a:avLst/>
          </a:prstGeom>
          <a:ln w="0">
            <a:noFill/>
          </a:ln>
        </p:spPr>
      </p:pic>
      <p:pic>
        <p:nvPicPr>
          <p:cNvPr id="281" name="" descr=""/>
          <p:cNvPicPr/>
          <p:nvPr/>
        </p:nvPicPr>
        <p:blipFill>
          <a:blip r:embed="rId5"/>
          <a:srcRect l="0" t="14874" r="5255" b="14874"/>
          <a:stretch/>
        </p:blipFill>
        <p:spPr>
          <a:xfrm>
            <a:off x="3027240" y="1481040"/>
            <a:ext cx="1316160" cy="103356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6"/>
          <a:stretch/>
        </p:blipFill>
        <p:spPr>
          <a:xfrm>
            <a:off x="7772400" y="0"/>
            <a:ext cx="1362240" cy="138096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7"/>
          <a:stretch/>
        </p:blipFill>
        <p:spPr>
          <a:xfrm>
            <a:off x="0" y="5486400"/>
            <a:ext cx="1200240" cy="1305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1014480" y="3814920"/>
            <a:ext cx="3429000" cy="239076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143000" y="152280"/>
            <a:ext cx="76201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Kristen ITC"/>
              </a:rPr>
              <a:t>Tropical Rainforest</a:t>
            </a:r>
            <a:r>
              <a:rPr b="0" lang="en-US" sz="4100" spc="-1" strike="noStrike">
                <a:solidFill>
                  <a:srgbClr val="ffffff"/>
                </a:solidFill>
                <a:latin typeface="Kristen ITC"/>
              </a:rPr>
              <a:t> </a:t>
            </a:r>
            <a:r>
              <a:rPr b="0" lang="en-US" sz="4100" spc="-1" strike="noStrike">
                <a:solidFill>
                  <a:srgbClr val="000000"/>
                </a:solidFill>
                <a:latin typeface="Kristen ITC"/>
              </a:rPr>
              <a:t>Biome</a:t>
            </a:r>
            <a:endParaRPr b="0" lang="en-US" sz="4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304920" y="1143000"/>
            <a:ext cx="8153280" cy="21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15800" indent="-380880">
              <a:lnSpc>
                <a:spcPct val="100000"/>
              </a:lnSpc>
              <a:spcBef>
                <a:spcPts val="601"/>
              </a:spcBef>
              <a:buClr>
                <a:srgbClr val="080808"/>
              </a:buClr>
              <a:buFont typeface="Wingdings 2" charset="2"/>
              <a:buChar char=""/>
              <a:tabLst>
                <a:tab algn="l" pos="415800"/>
                <a:tab algn="l" pos="873000"/>
                <a:tab algn="l" pos="1330200"/>
                <a:tab algn="l" pos="1787400"/>
                <a:tab algn="l" pos="2244600"/>
                <a:tab algn="l" pos="2701800"/>
                <a:tab algn="l" pos="3159000"/>
                <a:tab algn="l" pos="3616200"/>
                <a:tab algn="l" pos="4073400"/>
                <a:tab algn="l" pos="4530600"/>
                <a:tab algn="l" pos="4987800"/>
                <a:tab algn="l" pos="5445000"/>
                <a:tab algn="l" pos="5902200"/>
                <a:tab algn="l" pos="6359400"/>
                <a:tab algn="l" pos="6816600"/>
                <a:tab algn="l" pos="7273800"/>
                <a:tab algn="l" pos="7731000"/>
                <a:tab algn="l" pos="8188200"/>
                <a:tab algn="l" pos="8645400"/>
                <a:tab algn="l" pos="9102600"/>
                <a:tab algn="l" pos="95598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Kristen ITC"/>
              </a:rPr>
              <a:t>Rainforest biomes have over 5 types of snak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15800" indent="-380880">
              <a:lnSpc>
                <a:spcPct val="100000"/>
              </a:lnSpc>
              <a:spcBef>
                <a:spcPts val="601"/>
              </a:spcBef>
              <a:buClr>
                <a:srgbClr val="080808"/>
              </a:buClr>
              <a:buFont typeface="Wingdings 2" charset="2"/>
              <a:buChar char=""/>
              <a:tabLst>
                <a:tab algn="l" pos="415800"/>
                <a:tab algn="l" pos="873000"/>
                <a:tab algn="l" pos="1330200"/>
                <a:tab algn="l" pos="1787400"/>
                <a:tab algn="l" pos="2244600"/>
                <a:tab algn="l" pos="2701800"/>
                <a:tab algn="l" pos="3159000"/>
                <a:tab algn="l" pos="3616200"/>
                <a:tab algn="l" pos="4073400"/>
                <a:tab algn="l" pos="4530600"/>
                <a:tab algn="l" pos="4987800"/>
                <a:tab algn="l" pos="5445000"/>
                <a:tab algn="l" pos="5902200"/>
                <a:tab algn="l" pos="6359400"/>
                <a:tab algn="l" pos="6816600"/>
                <a:tab algn="l" pos="7273800"/>
                <a:tab algn="l" pos="7731000"/>
                <a:tab algn="l" pos="8188200"/>
                <a:tab algn="l" pos="8645400"/>
                <a:tab algn="l" pos="9102600"/>
                <a:tab algn="l" pos="95598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Kristen ITC"/>
              </a:rPr>
              <a:t>In the rainforest plants easily find their need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15800" indent="-380880">
              <a:lnSpc>
                <a:spcPct val="100000"/>
              </a:lnSpc>
              <a:spcBef>
                <a:spcPts val="601"/>
              </a:spcBef>
              <a:buClr>
                <a:srgbClr val="080808"/>
              </a:buClr>
              <a:buFont typeface="Wingdings 2" charset="2"/>
              <a:buChar char=""/>
              <a:tabLst>
                <a:tab algn="l" pos="415800"/>
                <a:tab algn="l" pos="873000"/>
                <a:tab algn="l" pos="1330200"/>
                <a:tab algn="l" pos="1787400"/>
                <a:tab algn="l" pos="2244600"/>
                <a:tab algn="l" pos="2701800"/>
                <a:tab algn="l" pos="3159000"/>
                <a:tab algn="l" pos="3616200"/>
                <a:tab algn="l" pos="4073400"/>
                <a:tab algn="l" pos="4530600"/>
                <a:tab algn="l" pos="4987800"/>
                <a:tab algn="l" pos="5445000"/>
                <a:tab algn="l" pos="5902200"/>
                <a:tab algn="l" pos="6359400"/>
                <a:tab algn="l" pos="6816600"/>
                <a:tab algn="l" pos="7273800"/>
                <a:tab algn="l" pos="7731000"/>
                <a:tab algn="l" pos="8188200"/>
                <a:tab algn="l" pos="8645400"/>
                <a:tab algn="l" pos="9102600"/>
                <a:tab algn="l" pos="95598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Kristen ITC"/>
              </a:rPr>
              <a:t>In the rainforest with tons of plants, plant eating animals have no trouble finding food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15800" indent="-380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15800"/>
                <a:tab algn="l" pos="873000"/>
                <a:tab algn="l" pos="1330200"/>
                <a:tab algn="l" pos="1787400"/>
                <a:tab algn="l" pos="2244600"/>
                <a:tab algn="l" pos="2701800"/>
                <a:tab algn="l" pos="3159000"/>
                <a:tab algn="l" pos="3616200"/>
                <a:tab algn="l" pos="4073400"/>
                <a:tab algn="l" pos="4530600"/>
                <a:tab algn="l" pos="4987800"/>
                <a:tab algn="l" pos="5445000"/>
                <a:tab algn="l" pos="5902200"/>
                <a:tab algn="l" pos="6359400"/>
                <a:tab algn="l" pos="6816600"/>
                <a:tab algn="l" pos="7273800"/>
                <a:tab algn="l" pos="7731000"/>
                <a:tab algn="l" pos="8188200"/>
                <a:tab algn="l" pos="8645400"/>
                <a:tab algn="l" pos="9102600"/>
                <a:tab algn="l" pos="95598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5105520" y="3887640"/>
            <a:ext cx="4038480" cy="2971800"/>
            <a:chOff x="5105520" y="3887640"/>
            <a:chExt cx="4038480" cy="2971800"/>
          </a:xfrm>
        </p:grpSpPr>
        <p:pic>
          <p:nvPicPr>
            <p:cNvPr id="178" name="" descr=""/>
            <p:cNvPicPr/>
            <p:nvPr/>
          </p:nvPicPr>
          <p:blipFill>
            <a:blip r:embed="rId2"/>
            <a:stretch/>
          </p:blipFill>
          <p:spPr>
            <a:xfrm>
              <a:off x="5105520" y="3887640"/>
              <a:ext cx="4038480" cy="297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"/>
            <p:cNvSpPr/>
            <p:nvPr/>
          </p:nvSpPr>
          <p:spPr>
            <a:xfrm>
              <a:off x="5410080" y="4114800"/>
              <a:ext cx="3505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Lucida Handwriting"/>
                </a:rPr>
                <a:t>Red eyed frog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3809880" y="5010120"/>
            <a:ext cx="2971800" cy="1847880"/>
            <a:chOff x="3809880" y="5010120"/>
            <a:chExt cx="2971800" cy="1847880"/>
          </a:xfrm>
        </p:grpSpPr>
        <p:pic>
          <p:nvPicPr>
            <p:cNvPr id="181" name="" descr=""/>
            <p:cNvPicPr/>
            <p:nvPr/>
          </p:nvPicPr>
          <p:blipFill>
            <a:blip r:embed="rId3"/>
            <a:stretch/>
          </p:blipFill>
          <p:spPr>
            <a:xfrm>
              <a:off x="3963960" y="5010120"/>
              <a:ext cx="2467080" cy="184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"/>
            <p:cNvSpPr/>
            <p:nvPr/>
          </p:nvSpPr>
          <p:spPr>
            <a:xfrm>
              <a:off x="3809880" y="5410080"/>
              <a:ext cx="297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00ffff"/>
                  </a:solidFill>
                  <a:latin typeface="Lucida Handwriting"/>
                </a:rPr>
                <a:t>Green mamba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1905120" y="228600"/>
            <a:ext cx="441936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600" spc="-1" strike="noStrike">
                <a:solidFill>
                  <a:srgbClr val="080808"/>
                </a:solidFill>
                <a:latin typeface="Lucida Handwriting"/>
              </a:rPr>
              <a:t>Water</a:t>
            </a:r>
            <a:r>
              <a:rPr b="0" lang="en-US" sz="4600" spc="-1" strike="noStrike">
                <a:solidFill>
                  <a:srgbClr val="ffffff"/>
                </a:solidFill>
                <a:latin typeface="Lucida Handwriting"/>
              </a:rPr>
              <a:t> </a:t>
            </a:r>
            <a:r>
              <a:rPr b="0" lang="en-US" sz="4600" spc="-1" strike="noStrike">
                <a:solidFill>
                  <a:srgbClr val="080808"/>
                </a:solidFill>
                <a:latin typeface="Lucida Handwriting"/>
              </a:rPr>
              <a:t>Biome</a:t>
            </a:r>
            <a:endParaRPr b="0" lang="en-US" sz="4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"/>
          <p:cNvSpPr/>
          <p:nvPr/>
        </p:nvSpPr>
        <p:spPr>
          <a:xfrm>
            <a:off x="990720" y="1600200"/>
            <a:ext cx="76960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19040" indent="-3794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19040"/>
                <a:tab algn="l" pos="876240"/>
                <a:tab algn="l" pos="1333440"/>
                <a:tab algn="l" pos="1790640"/>
                <a:tab algn="l" pos="2247840"/>
                <a:tab algn="l" pos="2705040"/>
                <a:tab algn="l" pos="3162240"/>
                <a:tab algn="l" pos="3619440"/>
                <a:tab algn="l" pos="4076640"/>
                <a:tab algn="l" pos="4533840"/>
                <a:tab algn="l" pos="4991040"/>
                <a:tab algn="l" pos="5448240"/>
                <a:tab algn="l" pos="5905440"/>
                <a:tab algn="l" pos="6362640"/>
                <a:tab algn="l" pos="6819840"/>
                <a:tab algn="l" pos="7277040"/>
                <a:tab algn="l" pos="7734240"/>
                <a:tab algn="l" pos="8191440"/>
                <a:tab algn="l" pos="8648640"/>
                <a:tab algn="l" pos="9105840"/>
                <a:tab algn="l" pos="956304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Lucida Handwriting"/>
              </a:rPr>
              <a:t>  </a:t>
            </a:r>
            <a:r>
              <a:rPr b="0" lang="en-US" sz="2000" spc="-1" strike="noStrike">
                <a:solidFill>
                  <a:srgbClr val="080808"/>
                </a:solidFill>
                <a:latin typeface="Lucida Handwriting"/>
              </a:rPr>
              <a:t>Water biomes are lakes, rivers, oceans, steams, and pond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419040" indent="-3794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19040"/>
                <a:tab algn="l" pos="876240"/>
                <a:tab algn="l" pos="1333440"/>
                <a:tab algn="l" pos="1790640"/>
                <a:tab algn="l" pos="2247840"/>
                <a:tab algn="l" pos="2705040"/>
                <a:tab algn="l" pos="3162240"/>
                <a:tab algn="l" pos="3619440"/>
                <a:tab algn="l" pos="4076640"/>
                <a:tab algn="l" pos="4533840"/>
                <a:tab algn="l" pos="4991040"/>
                <a:tab algn="l" pos="5448240"/>
                <a:tab algn="l" pos="5905440"/>
                <a:tab algn="l" pos="6362640"/>
                <a:tab algn="l" pos="6819840"/>
                <a:tab algn="l" pos="7277040"/>
                <a:tab algn="l" pos="7734240"/>
                <a:tab algn="l" pos="8191440"/>
                <a:tab algn="l" pos="8648640"/>
                <a:tab algn="l" pos="9105840"/>
                <a:tab algn="l" pos="956304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Lucida Handwriting"/>
              </a:rPr>
              <a:t>  •</a:t>
            </a:r>
            <a:r>
              <a:rPr b="0" lang="en-US" sz="2000" spc="-1" strike="noStrike">
                <a:solidFill>
                  <a:srgbClr val="080808"/>
                </a:solidFill>
                <a:latin typeface="Lucida Handwriting"/>
              </a:rPr>
              <a:t>Ocean biomes have over 100 fish!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419040" indent="-3794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19040"/>
                <a:tab algn="l" pos="876240"/>
                <a:tab algn="l" pos="1333440"/>
                <a:tab algn="l" pos="1790640"/>
                <a:tab algn="l" pos="2247840"/>
                <a:tab algn="l" pos="2705040"/>
                <a:tab algn="l" pos="3162240"/>
                <a:tab algn="l" pos="3619440"/>
                <a:tab algn="l" pos="4076640"/>
                <a:tab algn="l" pos="4533840"/>
                <a:tab algn="l" pos="4991040"/>
                <a:tab algn="l" pos="5448240"/>
                <a:tab algn="l" pos="5905440"/>
                <a:tab algn="l" pos="6362640"/>
                <a:tab algn="l" pos="6819840"/>
                <a:tab algn="l" pos="7277040"/>
                <a:tab algn="l" pos="7734240"/>
                <a:tab algn="l" pos="8191440"/>
                <a:tab algn="l" pos="8648640"/>
                <a:tab algn="l" pos="9105840"/>
                <a:tab algn="l" pos="956304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Lucida Handwriting"/>
              </a:rPr>
              <a:t>  •</a:t>
            </a:r>
            <a:r>
              <a:rPr b="0" lang="en-US" sz="2000" spc="-1" strike="noStrike">
                <a:solidFill>
                  <a:srgbClr val="080808"/>
                </a:solidFill>
                <a:latin typeface="Lucida Handwriting"/>
              </a:rPr>
              <a:t>The water biomes are home to many</a:t>
            </a:r>
            <a:r>
              <a:rPr b="0" lang="en-US" sz="2000" spc="-1" strike="noStrike">
                <a:solidFill>
                  <a:srgbClr val="ffffff"/>
                </a:solidFill>
                <a:latin typeface="Lucida Handwriting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Lucida Handwriting"/>
              </a:rPr>
              <a:t>organism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-1440" y="3352680"/>
            <a:ext cx="4572000" cy="3057480"/>
            <a:chOff x="-1440" y="3352680"/>
            <a:chExt cx="4572000" cy="3057480"/>
          </a:xfrm>
        </p:grpSpPr>
        <p:pic>
          <p:nvPicPr>
            <p:cNvPr id="186" name="" descr=""/>
            <p:cNvPicPr/>
            <p:nvPr/>
          </p:nvPicPr>
          <p:blipFill>
            <a:blip r:embed="rId1"/>
            <a:stretch/>
          </p:blipFill>
          <p:spPr>
            <a:xfrm>
              <a:off x="-1440" y="3352680"/>
              <a:ext cx="4572000" cy="305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"/>
            <p:cNvSpPr/>
            <p:nvPr/>
          </p:nvSpPr>
          <p:spPr>
            <a:xfrm>
              <a:off x="2666880" y="37339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Handwriting"/>
                </a:rPr>
                <a:t>Dolphins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4267080" y="4222800"/>
            <a:ext cx="3368880" cy="2636640"/>
            <a:chOff x="4267080" y="4222800"/>
            <a:chExt cx="3368880" cy="2636640"/>
          </a:xfrm>
        </p:grpSpPr>
        <p:pic>
          <p:nvPicPr>
            <p:cNvPr id="189" name="" descr=""/>
            <p:cNvPicPr/>
            <p:nvPr/>
          </p:nvPicPr>
          <p:blipFill>
            <a:blip r:embed="rId2"/>
            <a:stretch/>
          </p:blipFill>
          <p:spPr>
            <a:xfrm>
              <a:off x="4267080" y="4222800"/>
              <a:ext cx="3353040" cy="26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943600" y="6032520"/>
              <a:ext cx="1692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Handwriting"/>
                </a:rPr>
                <a:t>Dusky Dolphin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3362400" y="2481120"/>
            <a:ext cx="2419200" cy="189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"/>
          <p:cNvSpPr/>
          <p:nvPr/>
        </p:nvSpPr>
        <p:spPr>
          <a:xfrm>
            <a:off x="3362400" y="2481120"/>
            <a:ext cx="2419200" cy="189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"/>
          <p:cNvSpPr/>
          <p:nvPr/>
        </p:nvSpPr>
        <p:spPr>
          <a:xfrm>
            <a:off x="3362400" y="2481120"/>
            <a:ext cx="2419200" cy="189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"/>
          <p:cNvSpPr/>
          <p:nvPr/>
        </p:nvSpPr>
        <p:spPr>
          <a:xfrm>
            <a:off x="4267080" y="3124080"/>
            <a:ext cx="3191040" cy="10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"/>
          <p:cNvSpPr/>
          <p:nvPr/>
        </p:nvSpPr>
        <p:spPr>
          <a:xfrm>
            <a:off x="4495680" y="2971800"/>
            <a:ext cx="3267360" cy="25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"/>
          <p:cNvSpPr/>
          <p:nvPr/>
        </p:nvSpPr>
        <p:spPr>
          <a:xfrm>
            <a:off x="3505320" y="2666880"/>
            <a:ext cx="2419200" cy="189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2039760" y="5126040"/>
            <a:ext cx="2667240" cy="1752480"/>
            <a:chOff x="2039760" y="5126040"/>
            <a:chExt cx="2667240" cy="1752480"/>
          </a:xfrm>
        </p:grpSpPr>
        <p:pic>
          <p:nvPicPr>
            <p:cNvPr id="198" name="" descr=""/>
            <p:cNvPicPr/>
            <p:nvPr/>
          </p:nvPicPr>
          <p:blipFill>
            <a:blip r:embed="rId3"/>
            <a:stretch/>
          </p:blipFill>
          <p:spPr>
            <a:xfrm>
              <a:off x="2039760" y="5126040"/>
              <a:ext cx="2667240" cy="17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"/>
            <p:cNvSpPr/>
            <p:nvPr/>
          </p:nvSpPr>
          <p:spPr>
            <a:xfrm>
              <a:off x="2209680" y="6172200"/>
              <a:ext cx="1828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000" spc="-1" strike="noStrike">
                  <a:solidFill>
                    <a:srgbClr val="080808"/>
                  </a:solidFill>
                  <a:latin typeface="Lucida Handwriting"/>
                </a:rPr>
                <a:t>Sea turtle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00" name=""/>
          <p:cNvGrpSpPr/>
          <p:nvPr/>
        </p:nvGrpSpPr>
        <p:grpSpPr>
          <a:xfrm>
            <a:off x="3429000" y="2743200"/>
            <a:ext cx="2505240" cy="1828800"/>
            <a:chOff x="3429000" y="2743200"/>
            <a:chExt cx="2505240" cy="1828800"/>
          </a:xfrm>
        </p:grpSpPr>
        <p:pic>
          <p:nvPicPr>
            <p:cNvPr id="201" name="" descr=""/>
            <p:cNvPicPr/>
            <p:nvPr/>
          </p:nvPicPr>
          <p:blipFill>
            <a:blip r:embed="rId4"/>
            <a:stretch/>
          </p:blipFill>
          <p:spPr>
            <a:xfrm>
              <a:off x="3429000" y="2743200"/>
              <a:ext cx="25052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" name=""/>
            <p:cNvSpPr/>
            <p:nvPr/>
          </p:nvSpPr>
          <p:spPr>
            <a:xfrm>
              <a:off x="4410000" y="2819520"/>
              <a:ext cx="137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Lucida Handwriting"/>
                </a:rPr>
                <a:t>Shark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p:transition>
    <p:wedge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1828800" y="304920"/>
            <a:ext cx="426708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Deep sea Biome</a:t>
            </a:r>
            <a:endParaRPr b="0" lang="en-US" sz="4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"/>
          <p:cNvSpPr/>
          <p:nvPr/>
        </p:nvSpPr>
        <p:spPr>
          <a:xfrm>
            <a:off x="304920" y="1905120"/>
            <a:ext cx="80010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15800" indent="-380880">
              <a:lnSpc>
                <a:spcPct val="90000"/>
              </a:lnSpc>
              <a:spcBef>
                <a:spcPts val="451"/>
              </a:spcBef>
              <a:buClr>
                <a:srgbClr val="080808"/>
              </a:buClr>
              <a:buFont typeface="Wingdings 2" charset="2"/>
              <a:buChar char=""/>
              <a:tabLst>
                <a:tab algn="l" pos="415800"/>
                <a:tab algn="l" pos="873000"/>
                <a:tab algn="l" pos="1330200"/>
                <a:tab algn="l" pos="1787400"/>
                <a:tab algn="l" pos="2244600"/>
                <a:tab algn="l" pos="2701800"/>
                <a:tab algn="l" pos="3159000"/>
                <a:tab algn="l" pos="3616200"/>
                <a:tab algn="l" pos="4073400"/>
                <a:tab algn="l" pos="4530600"/>
                <a:tab algn="l" pos="4987800"/>
                <a:tab algn="l" pos="5445000"/>
                <a:tab algn="l" pos="5902200"/>
                <a:tab algn="l" pos="6359400"/>
                <a:tab algn="l" pos="6816600"/>
                <a:tab algn="l" pos="7273800"/>
                <a:tab algn="l" pos="7731000"/>
                <a:tab algn="l" pos="8188200"/>
                <a:tab algn="l" pos="8645400"/>
                <a:tab algn="l" pos="9102600"/>
                <a:tab algn="l" pos="95598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ep sea biomes are so deep under the sea that no sun can reach them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415800" indent="-380880">
              <a:lnSpc>
                <a:spcPct val="90000"/>
              </a:lnSpc>
              <a:spcBef>
                <a:spcPts val="451"/>
              </a:spcBef>
              <a:buClr>
                <a:srgbClr val="080808"/>
              </a:buClr>
              <a:buFont typeface="Wingdings 2" charset="2"/>
              <a:buChar char=""/>
              <a:tabLst>
                <a:tab algn="l" pos="415800"/>
                <a:tab algn="l" pos="873000"/>
                <a:tab algn="l" pos="1330200"/>
                <a:tab algn="l" pos="1787400"/>
                <a:tab algn="l" pos="2244600"/>
                <a:tab algn="l" pos="2701800"/>
                <a:tab algn="l" pos="3159000"/>
                <a:tab algn="l" pos="3616200"/>
                <a:tab algn="l" pos="4073400"/>
                <a:tab algn="l" pos="4530600"/>
                <a:tab algn="l" pos="4987800"/>
                <a:tab algn="l" pos="5445000"/>
                <a:tab algn="l" pos="5902200"/>
                <a:tab algn="l" pos="6359400"/>
                <a:tab algn="l" pos="6816600"/>
                <a:tab algn="l" pos="7273800"/>
                <a:tab algn="l" pos="7731000"/>
                <a:tab algn="l" pos="8188200"/>
                <a:tab algn="l" pos="8645400"/>
                <a:tab algn="l" pos="9102600"/>
                <a:tab algn="l" pos="95598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fish in the deep sea can glow sometimes!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415800" indent="-380880">
              <a:lnSpc>
                <a:spcPct val="90000"/>
              </a:lnSpc>
              <a:spcBef>
                <a:spcPts val="451"/>
              </a:spcBef>
              <a:buClr>
                <a:srgbClr val="080808"/>
              </a:buClr>
              <a:buFont typeface="Wingdings 2" charset="2"/>
              <a:buChar char=""/>
              <a:tabLst>
                <a:tab algn="l" pos="415800"/>
                <a:tab algn="l" pos="873000"/>
                <a:tab algn="l" pos="1330200"/>
                <a:tab algn="l" pos="1787400"/>
                <a:tab algn="l" pos="2244600"/>
                <a:tab algn="l" pos="2701800"/>
                <a:tab algn="l" pos="3159000"/>
                <a:tab algn="l" pos="3616200"/>
                <a:tab algn="l" pos="4073400"/>
                <a:tab algn="l" pos="4530600"/>
                <a:tab algn="l" pos="4987800"/>
                <a:tab algn="l" pos="5445000"/>
                <a:tab algn="l" pos="5902200"/>
                <a:tab algn="l" pos="6359400"/>
                <a:tab algn="l" pos="6816600"/>
                <a:tab algn="l" pos="7273800"/>
                <a:tab algn="l" pos="7731000"/>
                <a:tab algn="l" pos="8188200"/>
                <a:tab algn="l" pos="8645400"/>
                <a:tab algn="l" pos="9102600"/>
                <a:tab algn="l" pos="95598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fish have to deal with darkness, coldness, and very high water temp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-1440" y="4060800"/>
            <a:ext cx="3733560" cy="2797200"/>
            <a:chOff x="-1440" y="4060800"/>
            <a:chExt cx="3733560" cy="2797200"/>
          </a:xfrm>
        </p:grpSpPr>
        <p:pic>
          <p:nvPicPr>
            <p:cNvPr id="206" name="" descr=""/>
            <p:cNvPicPr/>
            <p:nvPr/>
          </p:nvPicPr>
          <p:blipFill>
            <a:blip r:embed="rId1"/>
            <a:stretch/>
          </p:blipFill>
          <p:spPr>
            <a:xfrm>
              <a:off x="-1440" y="4060800"/>
              <a:ext cx="3733560" cy="279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"/>
            <p:cNvSpPr/>
            <p:nvPr/>
          </p:nvSpPr>
          <p:spPr>
            <a:xfrm>
              <a:off x="533520" y="4800600"/>
              <a:ext cx="228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Handwriting"/>
                </a:rPr>
                <a:t>Frilled shark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3429000" y="3427560"/>
            <a:ext cx="2590920" cy="1761840"/>
            <a:chOff x="3429000" y="3427560"/>
            <a:chExt cx="2590920" cy="1761840"/>
          </a:xfrm>
        </p:grpSpPr>
        <p:pic>
          <p:nvPicPr>
            <p:cNvPr id="209" name="" descr=""/>
            <p:cNvPicPr/>
            <p:nvPr/>
          </p:nvPicPr>
          <p:blipFill>
            <a:blip r:embed="rId2"/>
            <a:stretch/>
          </p:blipFill>
          <p:spPr>
            <a:xfrm>
              <a:off x="3429000" y="3427560"/>
              <a:ext cx="2590920" cy="176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"/>
            <p:cNvSpPr/>
            <p:nvPr/>
          </p:nvSpPr>
          <p:spPr>
            <a:xfrm>
              <a:off x="3733920" y="4495680"/>
              <a:ext cx="160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000" spc="-1" strike="noStrike">
                  <a:solidFill>
                    <a:srgbClr val="d4d2d0"/>
                  </a:solidFill>
                  <a:latin typeface="Lucida Handwriting"/>
                </a:rPr>
                <a:t>seahorse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p:transition>
    <p:strips dir="rd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4981680" y="3255840"/>
            <a:ext cx="3933720" cy="3602160"/>
          </a:xfrm>
          <a:prstGeom prst="rect">
            <a:avLst/>
          </a:prstGeom>
          <a:ln w="0">
            <a:noFill/>
          </a:ln>
        </p:spPr>
      </p:pic>
      <p:grpSp>
        <p:nvGrpSpPr>
          <p:cNvPr id="212" name=""/>
          <p:cNvGrpSpPr/>
          <p:nvPr/>
        </p:nvGrpSpPr>
        <p:grpSpPr>
          <a:xfrm>
            <a:off x="-136800" y="4604760"/>
            <a:ext cx="3074400" cy="2449440"/>
            <a:chOff x="-136800" y="4604760"/>
            <a:chExt cx="3074400" cy="2449440"/>
          </a:xfrm>
        </p:grpSpPr>
        <p:pic>
          <p:nvPicPr>
            <p:cNvPr id="213" name="" descr=""/>
            <p:cNvPicPr/>
            <p:nvPr/>
          </p:nvPicPr>
          <p:blipFill>
            <a:blip r:embed="rId2"/>
            <a:stretch/>
          </p:blipFill>
          <p:spPr>
            <a:xfrm rot="21088800">
              <a:off x="0" y="4800600"/>
              <a:ext cx="2800440" cy="205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>
              <a:off x="762120" y="5257800"/>
              <a:ext cx="1752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Barracuda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5545080" y="-182520"/>
            <a:ext cx="3797280" cy="4116960"/>
            <a:chOff x="5545080" y="-182520"/>
            <a:chExt cx="3797280" cy="4116960"/>
          </a:xfrm>
        </p:grpSpPr>
        <p:pic>
          <p:nvPicPr>
            <p:cNvPr id="216" name="" descr=""/>
            <p:cNvPicPr/>
            <p:nvPr/>
          </p:nvPicPr>
          <p:blipFill>
            <a:blip r:embed="rId3"/>
            <a:stretch/>
          </p:blipFill>
          <p:spPr>
            <a:xfrm rot="21205200">
              <a:off x="5743440" y="0"/>
              <a:ext cx="3400560" cy="365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>
              <a:off x="7315200" y="2743200"/>
              <a:ext cx="1828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Remora and Nurse shark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-133560" y="-60480"/>
            <a:ext cx="5524560" cy="3854520"/>
            <a:chOff x="-133560" y="-60480"/>
            <a:chExt cx="5524560" cy="3854520"/>
          </a:xfrm>
        </p:grpSpPr>
        <p:pic>
          <p:nvPicPr>
            <p:cNvPr id="219" name="" descr=""/>
            <p:cNvPicPr/>
            <p:nvPr/>
          </p:nvPicPr>
          <p:blipFill>
            <a:blip r:embed="rId4"/>
            <a:stretch/>
          </p:blipFill>
          <p:spPr>
            <a:xfrm rot="286200">
              <a:off x="0" y="151920"/>
              <a:ext cx="5257800" cy="342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0" name=""/>
            <p:cNvSpPr/>
            <p:nvPr/>
          </p:nvSpPr>
          <p:spPr>
            <a:xfrm>
              <a:off x="457200" y="1752480"/>
              <a:ext cx="1981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Coral reef fish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21" name=""/>
          <p:cNvSpPr/>
          <p:nvPr/>
        </p:nvSpPr>
        <p:spPr>
          <a:xfrm>
            <a:off x="2057400" y="228600"/>
            <a:ext cx="525780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KaiTi"/>
              </a:rPr>
              <a:t>Coral  Reef Biome</a:t>
            </a:r>
            <a:endParaRPr b="0" lang="en-US" sz="4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"/>
          <p:cNvSpPr/>
          <p:nvPr/>
        </p:nvSpPr>
        <p:spPr>
          <a:xfrm>
            <a:off x="304920" y="3276720"/>
            <a:ext cx="746748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20720" indent="-2714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andara"/>
              <a:buChar char="•"/>
              <a:tabLst>
                <a:tab algn="l" pos="720720"/>
                <a:tab algn="l" pos="1177920"/>
                <a:tab algn="l" pos="1635120"/>
                <a:tab algn="l" pos="2092320"/>
                <a:tab algn="l" pos="2549520"/>
                <a:tab algn="l" pos="3006720"/>
                <a:tab algn="l" pos="3463920"/>
                <a:tab algn="l" pos="3921120"/>
                <a:tab algn="l" pos="4378320"/>
                <a:tab algn="l" pos="4835520"/>
                <a:tab algn="l" pos="5292720"/>
                <a:tab algn="l" pos="5749920"/>
                <a:tab algn="l" pos="6207120"/>
                <a:tab algn="l" pos="6664320"/>
                <a:tab algn="l" pos="7121520"/>
                <a:tab algn="l" pos="7578720"/>
                <a:tab algn="l" pos="8035920"/>
                <a:tab algn="l" pos="8493120"/>
                <a:tab algn="l" pos="8950320"/>
                <a:tab algn="l" pos="9407520"/>
                <a:tab algn="l" pos="986472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ndara"/>
              </a:rPr>
              <a:t>The coral reef is warm temp. water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480">
              <a:lnSpc>
                <a:spcPct val="100000"/>
              </a:lnSpc>
              <a:spcBef>
                <a:spcPts val="451"/>
              </a:spcBef>
              <a:buClr>
                <a:srgbClr val="000066"/>
              </a:buClr>
              <a:buFont typeface="Wingdings 2" charset="2"/>
              <a:buChar char=""/>
              <a:tabLst>
                <a:tab algn="l" pos="720720"/>
                <a:tab algn="l" pos="1177920"/>
                <a:tab algn="l" pos="1635120"/>
                <a:tab algn="l" pos="2092320"/>
                <a:tab algn="l" pos="2549520"/>
                <a:tab algn="l" pos="3006720"/>
                <a:tab algn="l" pos="3463920"/>
                <a:tab algn="l" pos="3921120"/>
                <a:tab algn="l" pos="4378320"/>
                <a:tab algn="l" pos="4835520"/>
                <a:tab algn="l" pos="5292720"/>
                <a:tab algn="l" pos="5749920"/>
                <a:tab algn="l" pos="6207120"/>
                <a:tab algn="l" pos="6664320"/>
                <a:tab algn="l" pos="7121520"/>
                <a:tab algn="l" pos="7578720"/>
                <a:tab algn="l" pos="8035920"/>
                <a:tab algn="l" pos="8493120"/>
                <a:tab algn="l" pos="8950320"/>
                <a:tab algn="l" pos="9407520"/>
                <a:tab algn="l" pos="986472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ndara"/>
              </a:rPr>
              <a:t>It’s water contains many fish and coral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480">
              <a:lnSpc>
                <a:spcPct val="100000"/>
              </a:lnSpc>
              <a:spcBef>
                <a:spcPts val="451"/>
              </a:spcBef>
              <a:buClr>
                <a:srgbClr val="000066"/>
              </a:buClr>
              <a:buFont typeface="Wingdings 2" charset="2"/>
              <a:buChar char=""/>
              <a:tabLst>
                <a:tab algn="l" pos="720720"/>
                <a:tab algn="l" pos="1177920"/>
                <a:tab algn="l" pos="1635120"/>
                <a:tab algn="l" pos="2092320"/>
                <a:tab algn="l" pos="2549520"/>
                <a:tab algn="l" pos="3006720"/>
                <a:tab algn="l" pos="3463920"/>
                <a:tab algn="l" pos="3921120"/>
                <a:tab algn="l" pos="4378320"/>
                <a:tab algn="l" pos="4835520"/>
                <a:tab algn="l" pos="5292720"/>
                <a:tab algn="l" pos="5749920"/>
                <a:tab algn="l" pos="6207120"/>
                <a:tab algn="l" pos="6664320"/>
                <a:tab algn="l" pos="7121520"/>
                <a:tab algn="l" pos="7578720"/>
                <a:tab algn="l" pos="8035920"/>
                <a:tab algn="l" pos="8493120"/>
                <a:tab algn="l" pos="8950320"/>
                <a:tab algn="l" pos="9407520"/>
                <a:tab algn="l" pos="986472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ndara"/>
              </a:rPr>
              <a:t>Extra nutrients may harm the coral reef by helping enemy's grow into big enemy’s so they can do damage to it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20720"/>
                <a:tab algn="l" pos="1177920"/>
                <a:tab algn="l" pos="1635120"/>
                <a:tab algn="l" pos="2092320"/>
                <a:tab algn="l" pos="2549520"/>
                <a:tab algn="l" pos="3006720"/>
                <a:tab algn="l" pos="3463920"/>
                <a:tab algn="l" pos="3921120"/>
                <a:tab algn="l" pos="4378320"/>
                <a:tab algn="l" pos="4835520"/>
                <a:tab algn="l" pos="5292720"/>
                <a:tab algn="l" pos="5749920"/>
                <a:tab algn="l" pos="6207120"/>
                <a:tab algn="l" pos="6664320"/>
                <a:tab algn="l" pos="7121520"/>
                <a:tab algn="l" pos="7578720"/>
                <a:tab algn="l" pos="8035920"/>
                <a:tab algn="l" pos="8493120"/>
                <a:tab algn="l" pos="8950320"/>
                <a:tab algn="l" pos="9407520"/>
                <a:tab algn="l" pos="986472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ll dir="rd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2895480" y="0"/>
            <a:ext cx="373392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600" spc="-1" strike="noStrike">
                <a:solidFill>
                  <a:srgbClr val="080808"/>
                </a:solidFill>
                <a:latin typeface="Franklin Gothic Book"/>
              </a:rPr>
              <a:t>Tundra Biome</a:t>
            </a:r>
            <a:endParaRPr b="0" lang="en-US" sz="4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"/>
          <p:cNvSpPr/>
          <p:nvPr/>
        </p:nvSpPr>
        <p:spPr>
          <a:xfrm>
            <a:off x="45720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15800" indent="-380880"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Font typeface="Wingdings 2" charset="2"/>
              <a:buChar char=""/>
              <a:tabLst>
                <a:tab algn="l" pos="415800"/>
                <a:tab algn="l" pos="873000"/>
                <a:tab algn="l" pos="1330200"/>
                <a:tab algn="l" pos="1787400"/>
                <a:tab algn="l" pos="2244600"/>
                <a:tab algn="l" pos="2701800"/>
                <a:tab algn="l" pos="3159000"/>
                <a:tab algn="l" pos="3616200"/>
                <a:tab algn="l" pos="4073400"/>
                <a:tab algn="l" pos="4530600"/>
                <a:tab algn="l" pos="4987800"/>
                <a:tab algn="l" pos="5445000"/>
                <a:tab algn="l" pos="5902200"/>
                <a:tab algn="l" pos="6359400"/>
                <a:tab algn="l" pos="6816600"/>
                <a:tab algn="l" pos="7273800"/>
                <a:tab algn="l" pos="7731000"/>
                <a:tab algn="l" pos="8188200"/>
                <a:tab algn="l" pos="8645400"/>
                <a:tab algn="l" pos="9102600"/>
                <a:tab algn="l" pos="95598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aribou change their grazing behavior when the snow com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415800" indent="-380880"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Font typeface="Wingdings 2" charset="2"/>
              <a:buChar char=""/>
              <a:tabLst>
                <a:tab algn="l" pos="415800"/>
                <a:tab algn="l" pos="873000"/>
                <a:tab algn="l" pos="1330200"/>
                <a:tab algn="l" pos="1787400"/>
                <a:tab algn="l" pos="2244600"/>
                <a:tab algn="l" pos="2701800"/>
                <a:tab algn="l" pos="3159000"/>
                <a:tab algn="l" pos="3616200"/>
                <a:tab algn="l" pos="4073400"/>
                <a:tab algn="l" pos="4530600"/>
                <a:tab algn="l" pos="4987800"/>
                <a:tab algn="l" pos="5445000"/>
                <a:tab algn="l" pos="5902200"/>
                <a:tab algn="l" pos="6359400"/>
                <a:tab algn="l" pos="6816600"/>
                <a:tab algn="l" pos="7273800"/>
                <a:tab algn="l" pos="7731000"/>
                <a:tab algn="l" pos="8188200"/>
                <a:tab algn="l" pos="8645400"/>
                <a:tab algn="l" pos="9102600"/>
                <a:tab algn="l" pos="95598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undra gets very little rain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4572000" y="4419720"/>
            <a:ext cx="3733920" cy="2971800"/>
            <a:chOff x="4572000" y="4419720"/>
            <a:chExt cx="3733920" cy="2971800"/>
          </a:xfrm>
        </p:grpSpPr>
        <p:pic>
          <p:nvPicPr>
            <p:cNvPr id="226" name="" descr=""/>
            <p:cNvPicPr/>
            <p:nvPr/>
          </p:nvPicPr>
          <p:blipFill>
            <a:blip r:embed="rId1"/>
            <a:stretch/>
          </p:blipFill>
          <p:spPr>
            <a:xfrm>
              <a:off x="4572000" y="4419720"/>
              <a:ext cx="2971800" cy="297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"/>
            <p:cNvSpPr/>
            <p:nvPr/>
          </p:nvSpPr>
          <p:spPr>
            <a:xfrm>
              <a:off x="4724280" y="5029200"/>
              <a:ext cx="358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080808"/>
                  </a:solidFill>
                  <a:latin typeface="Lucida Handwriting"/>
                </a:rPr>
                <a:t>Wolf baby 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-128160" y="3760560"/>
            <a:ext cx="4218480" cy="3040920"/>
            <a:chOff x="-128160" y="3760560"/>
            <a:chExt cx="4218480" cy="3040920"/>
          </a:xfrm>
        </p:grpSpPr>
        <p:pic>
          <p:nvPicPr>
            <p:cNvPr id="229" name="" descr=""/>
            <p:cNvPicPr/>
            <p:nvPr/>
          </p:nvPicPr>
          <p:blipFill>
            <a:blip r:embed="rId2"/>
            <a:stretch/>
          </p:blipFill>
          <p:spPr>
            <a:xfrm rot="364200">
              <a:off x="0" y="3962520"/>
              <a:ext cx="3962160" cy="26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"/>
            <p:cNvSpPr/>
            <p:nvPr/>
          </p:nvSpPr>
          <p:spPr>
            <a:xfrm>
              <a:off x="1598400" y="4800600"/>
              <a:ext cx="182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Handwriting"/>
                </a:rPr>
                <a:t>Fox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7032600" y="0"/>
            <a:ext cx="1882800" cy="1981080"/>
            <a:chOff x="7032600" y="0"/>
            <a:chExt cx="1882800" cy="1981080"/>
          </a:xfrm>
        </p:grpSpPr>
        <p:pic>
          <p:nvPicPr>
            <p:cNvPr id="232" name="" descr=""/>
            <p:cNvPicPr/>
            <p:nvPr/>
          </p:nvPicPr>
          <p:blipFill>
            <a:blip r:embed="rId3"/>
            <a:stretch/>
          </p:blipFill>
          <p:spPr>
            <a:xfrm>
              <a:off x="7032600" y="0"/>
              <a:ext cx="1882800" cy="198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"/>
            <p:cNvSpPr/>
            <p:nvPr/>
          </p:nvSpPr>
          <p:spPr>
            <a:xfrm>
              <a:off x="7223040" y="566640"/>
              <a:ext cx="154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080808"/>
                  </a:solidFill>
                  <a:latin typeface="Lucida Handwriting"/>
                </a:rPr>
                <a:t>Falcon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pic>
        <p:nvPicPr>
          <p:cNvPr id="234" name="" descr=""/>
          <p:cNvPicPr/>
          <p:nvPr/>
        </p:nvPicPr>
        <p:blipFill>
          <a:blip r:embed="rId4"/>
          <a:stretch/>
        </p:blipFill>
        <p:spPr>
          <a:xfrm>
            <a:off x="5943600" y="2971800"/>
            <a:ext cx="1943280" cy="114300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6248520" y="3200400"/>
            <a:ext cx="16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emming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ll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2819520" y="304920"/>
            <a:ext cx="335268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Franklin Gothic Book"/>
              </a:rPr>
              <a:t>Taiga Biome</a:t>
            </a:r>
            <a:endParaRPr b="0" lang="en-US" sz="4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15800" indent="-380880"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Font typeface="Wingdings 2" charset="2"/>
              <a:buChar char=""/>
              <a:tabLst>
                <a:tab algn="l" pos="415800"/>
                <a:tab algn="l" pos="873000"/>
                <a:tab algn="l" pos="1330200"/>
                <a:tab algn="l" pos="1787400"/>
                <a:tab algn="l" pos="2244600"/>
                <a:tab algn="l" pos="2701800"/>
                <a:tab algn="l" pos="3159000"/>
                <a:tab algn="l" pos="3616200"/>
                <a:tab algn="l" pos="4073400"/>
                <a:tab algn="l" pos="4530600"/>
                <a:tab algn="l" pos="4987800"/>
                <a:tab algn="l" pos="5445000"/>
                <a:tab algn="l" pos="5902200"/>
                <a:tab algn="l" pos="6359400"/>
                <a:tab algn="l" pos="6816600"/>
                <a:tab algn="l" pos="7273800"/>
                <a:tab algn="l" pos="7731000"/>
                <a:tab algn="l" pos="8188200"/>
                <a:tab algn="l" pos="8645400"/>
                <a:tab algn="l" pos="9102600"/>
                <a:tab algn="l" pos="95598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d0d0d"/>
                </a:solidFill>
                <a:latin typeface="Arial"/>
              </a:rPr>
              <a:t>The animals that you might find here are bears, elk, and wolf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415800" indent="-380880"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Font typeface="Wingdings 2" charset="2"/>
              <a:buChar char=""/>
              <a:tabLst>
                <a:tab algn="l" pos="415800"/>
                <a:tab algn="l" pos="873000"/>
                <a:tab algn="l" pos="1330200"/>
                <a:tab algn="l" pos="1787400"/>
                <a:tab algn="l" pos="2244600"/>
                <a:tab algn="l" pos="2701800"/>
                <a:tab algn="l" pos="3159000"/>
                <a:tab algn="l" pos="3616200"/>
                <a:tab algn="l" pos="4073400"/>
                <a:tab algn="l" pos="4530600"/>
                <a:tab algn="l" pos="4987800"/>
                <a:tab algn="l" pos="5445000"/>
                <a:tab algn="l" pos="5902200"/>
                <a:tab algn="l" pos="6359400"/>
                <a:tab algn="l" pos="6816600"/>
                <a:tab algn="l" pos="7273800"/>
                <a:tab algn="l" pos="7731000"/>
                <a:tab algn="l" pos="8188200"/>
                <a:tab algn="l" pos="8645400"/>
                <a:tab algn="l" pos="9102600"/>
                <a:tab algn="l" pos="95598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d0d0d"/>
                </a:solidFill>
                <a:latin typeface="Arial"/>
              </a:rPr>
              <a:t>Smaller animals are mice, wolverine, and porcupin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415800" indent="-380880"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Font typeface="Wingdings 2" charset="2"/>
              <a:buChar char=""/>
              <a:tabLst>
                <a:tab algn="l" pos="415800"/>
                <a:tab algn="l" pos="873000"/>
                <a:tab algn="l" pos="1330200"/>
                <a:tab algn="l" pos="1787400"/>
                <a:tab algn="l" pos="2244600"/>
                <a:tab algn="l" pos="2701800"/>
                <a:tab algn="l" pos="3159000"/>
                <a:tab algn="l" pos="3616200"/>
                <a:tab algn="l" pos="4073400"/>
                <a:tab algn="l" pos="4530600"/>
                <a:tab algn="l" pos="4987800"/>
                <a:tab algn="l" pos="5445000"/>
                <a:tab algn="l" pos="5902200"/>
                <a:tab algn="l" pos="6359400"/>
                <a:tab algn="l" pos="6816600"/>
                <a:tab algn="l" pos="7273800"/>
                <a:tab algn="l" pos="7731000"/>
                <a:tab algn="l" pos="8188200"/>
                <a:tab algn="l" pos="8645400"/>
                <a:tab algn="l" pos="9102600"/>
                <a:tab algn="l" pos="95598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d0d0d"/>
                </a:solidFill>
                <a:latin typeface="Arial"/>
              </a:rPr>
              <a:t>You may also see ducks, owls, and wood pecker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"/>
          <p:cNvSpPr/>
          <p:nvPr/>
        </p:nvSpPr>
        <p:spPr>
          <a:xfrm flipH="1" flipV="1">
            <a:off x="-229320" y="6858000"/>
            <a:ext cx="228600" cy="76320"/>
          </a:xfrm>
          <a:prstGeom prst="roundRect">
            <a:avLst>
              <a:gd name="adj" fmla="val 231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2057400" y="3124080"/>
            <a:ext cx="2819520" cy="2362320"/>
            <a:chOff x="2057400" y="3124080"/>
            <a:chExt cx="2819520" cy="2362320"/>
          </a:xfrm>
        </p:grpSpPr>
        <p:pic>
          <p:nvPicPr>
            <p:cNvPr id="240" name="" descr=""/>
            <p:cNvPicPr/>
            <p:nvPr/>
          </p:nvPicPr>
          <p:blipFill>
            <a:blip r:embed="rId1"/>
            <a:stretch/>
          </p:blipFill>
          <p:spPr>
            <a:xfrm>
              <a:off x="2057400" y="3200400"/>
              <a:ext cx="2819520" cy="228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"/>
            <p:cNvSpPr/>
            <p:nvPr/>
          </p:nvSpPr>
          <p:spPr>
            <a:xfrm>
              <a:off x="2666880" y="3124080"/>
              <a:ext cx="198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Handwriting"/>
                </a:rPr>
                <a:t>Wolverine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42" name=""/>
          <p:cNvGrpSpPr/>
          <p:nvPr/>
        </p:nvGrpSpPr>
        <p:grpSpPr>
          <a:xfrm>
            <a:off x="0" y="3124080"/>
            <a:ext cx="3200400" cy="3736440"/>
            <a:chOff x="0" y="3124080"/>
            <a:chExt cx="3200400" cy="3736440"/>
          </a:xfrm>
        </p:grpSpPr>
        <p:pic>
          <p:nvPicPr>
            <p:cNvPr id="243" name="" descr=""/>
            <p:cNvPicPr/>
            <p:nvPr/>
          </p:nvPicPr>
          <p:blipFill>
            <a:blip r:embed="rId2"/>
            <a:stretch/>
          </p:blipFill>
          <p:spPr>
            <a:xfrm>
              <a:off x="0" y="3124080"/>
              <a:ext cx="2286000" cy="373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4" name=""/>
            <p:cNvSpPr/>
            <p:nvPr/>
          </p:nvSpPr>
          <p:spPr>
            <a:xfrm>
              <a:off x="0" y="640080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Handwriting"/>
                </a:rPr>
                <a:t>Bear and Wolf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724280" y="3276720"/>
            <a:ext cx="2324160" cy="1828800"/>
            <a:chOff x="4724280" y="3276720"/>
            <a:chExt cx="2324160" cy="1828800"/>
          </a:xfrm>
        </p:grpSpPr>
        <p:pic>
          <p:nvPicPr>
            <p:cNvPr id="246" name="" descr=""/>
            <p:cNvPicPr/>
            <p:nvPr/>
          </p:nvPicPr>
          <p:blipFill>
            <a:blip r:embed="rId3"/>
            <a:stretch/>
          </p:blipFill>
          <p:spPr>
            <a:xfrm>
              <a:off x="4724280" y="3276720"/>
              <a:ext cx="232416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7" name=""/>
            <p:cNvSpPr/>
            <p:nvPr/>
          </p:nvSpPr>
          <p:spPr>
            <a:xfrm>
              <a:off x="4724280" y="4343400"/>
              <a:ext cx="20574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Handwriting"/>
                </a:rPr>
                <a:t>Albino  Wolverine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48" name=""/>
          <p:cNvGrpSpPr/>
          <p:nvPr/>
        </p:nvGrpSpPr>
        <p:grpSpPr>
          <a:xfrm>
            <a:off x="3429000" y="5105520"/>
            <a:ext cx="2505240" cy="1819440"/>
            <a:chOff x="3429000" y="5105520"/>
            <a:chExt cx="2505240" cy="1819440"/>
          </a:xfrm>
        </p:grpSpPr>
        <p:pic>
          <p:nvPicPr>
            <p:cNvPr id="249" name="" descr=""/>
            <p:cNvPicPr/>
            <p:nvPr/>
          </p:nvPicPr>
          <p:blipFill>
            <a:blip r:embed="rId4"/>
            <a:stretch/>
          </p:blipFill>
          <p:spPr>
            <a:xfrm>
              <a:off x="3429000" y="5105520"/>
              <a:ext cx="2505240" cy="181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0" name=""/>
            <p:cNvSpPr/>
            <p:nvPr/>
          </p:nvSpPr>
          <p:spPr>
            <a:xfrm>
              <a:off x="3800520" y="6248520"/>
              <a:ext cx="198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Lucida Handwriting"/>
                </a:rPr>
                <a:t>Mice babies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p:transition>
    <p:pull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-228600" y="-228600"/>
            <a:ext cx="8458200" cy="7772400"/>
          </a:xfrm>
          <a:custGeom>
            <a:avLst/>
            <a:gdLst>
              <a:gd name="textAreaLeft" fmla="*/ 1987920 w 8458200"/>
              <a:gd name="textAreaRight" fmla="*/ 6464520 w 8458200"/>
              <a:gd name="textAreaTop" fmla="*/ 913680 h 7772400"/>
              <a:gd name="textAreaBottom" fmla="*/ 4875480 h 77724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9" y="5766"/>
                  <a:pt x="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2" name=""/>
          <p:cNvSpPr/>
          <p:nvPr/>
        </p:nvSpPr>
        <p:spPr>
          <a:xfrm>
            <a:off x="762120" y="228600"/>
            <a:ext cx="792468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Franklin Gothic Book"/>
              </a:rPr>
              <a:t>Deciduous Rainforest Biome</a:t>
            </a:r>
            <a:endParaRPr b="0" lang="en-US" sz="4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"/>
          <p:cNvSpPr/>
          <p:nvPr/>
        </p:nvSpPr>
        <p:spPr>
          <a:xfrm>
            <a:off x="45720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15800" indent="-380880"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Font typeface="Wingdings 2" charset="2"/>
              <a:buChar char=""/>
              <a:tabLst>
                <a:tab algn="l" pos="415800"/>
                <a:tab algn="l" pos="873000"/>
                <a:tab algn="l" pos="1330200"/>
                <a:tab algn="l" pos="1787400"/>
                <a:tab algn="l" pos="2244600"/>
                <a:tab algn="l" pos="2701800"/>
                <a:tab algn="l" pos="3159000"/>
                <a:tab algn="l" pos="3616200"/>
                <a:tab algn="l" pos="4073400"/>
                <a:tab algn="l" pos="4530600"/>
                <a:tab algn="l" pos="4987800"/>
                <a:tab algn="l" pos="5445000"/>
                <a:tab algn="l" pos="5902200"/>
                <a:tab algn="l" pos="6359400"/>
                <a:tab algn="l" pos="6816600"/>
                <a:tab algn="l" pos="7273800"/>
                <a:tab algn="l" pos="7731000"/>
                <a:tab algn="l" pos="8188200"/>
                <a:tab algn="l" pos="8645400"/>
                <a:tab algn="l" pos="9102600"/>
                <a:tab algn="l" pos="95598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ciduous rainforest biomes do not have huge amounts of rain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415800" indent="-380880"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Font typeface="Wingdings 2" charset="2"/>
              <a:buChar char=""/>
              <a:tabLst>
                <a:tab algn="l" pos="415800"/>
                <a:tab algn="l" pos="873000"/>
                <a:tab algn="l" pos="1330200"/>
                <a:tab algn="l" pos="1787400"/>
                <a:tab algn="l" pos="2244600"/>
                <a:tab algn="l" pos="2701800"/>
                <a:tab algn="l" pos="3159000"/>
                <a:tab algn="l" pos="3616200"/>
                <a:tab algn="l" pos="4073400"/>
                <a:tab algn="l" pos="4530600"/>
                <a:tab algn="l" pos="4987800"/>
                <a:tab algn="l" pos="5445000"/>
                <a:tab algn="l" pos="5902200"/>
                <a:tab algn="l" pos="6359400"/>
                <a:tab algn="l" pos="6816600"/>
                <a:tab algn="l" pos="7273800"/>
                <a:tab algn="l" pos="7731000"/>
                <a:tab algn="l" pos="8188200"/>
                <a:tab algn="l" pos="8645400"/>
                <a:tab algn="l" pos="9102600"/>
                <a:tab algn="l" pos="95598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ars in the deciduous forests sleep most of the winter because there is less food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415800" indent="-380880"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Font typeface="Wingdings 2" charset="2"/>
              <a:buChar char=""/>
              <a:tabLst>
                <a:tab algn="l" pos="415800"/>
                <a:tab algn="l" pos="873000"/>
                <a:tab algn="l" pos="1330200"/>
                <a:tab algn="l" pos="1787400"/>
                <a:tab algn="l" pos="2244600"/>
                <a:tab algn="l" pos="2701800"/>
                <a:tab algn="l" pos="3159000"/>
                <a:tab algn="l" pos="3616200"/>
                <a:tab algn="l" pos="4073400"/>
                <a:tab algn="l" pos="4530600"/>
                <a:tab algn="l" pos="4987800"/>
                <a:tab algn="l" pos="5445000"/>
                <a:tab algn="l" pos="5902200"/>
                <a:tab algn="l" pos="6359400"/>
                <a:tab algn="l" pos="6816600"/>
                <a:tab algn="l" pos="7273800"/>
                <a:tab algn="l" pos="7731000"/>
                <a:tab algn="l" pos="8188200"/>
                <a:tab algn="l" pos="8645400"/>
                <a:tab algn="l" pos="9102600"/>
                <a:tab algn="l" pos="95598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lamanders, frogs and snakes hibernate underground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206280" y="3468600"/>
            <a:ext cx="1847880" cy="247644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2"/>
          <a:stretch/>
        </p:blipFill>
        <p:spPr>
          <a:xfrm>
            <a:off x="1828800" y="480060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3"/>
          <a:stretch/>
        </p:blipFill>
        <p:spPr>
          <a:xfrm>
            <a:off x="3657600" y="342900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4"/>
          <a:stretch/>
        </p:blipFill>
        <p:spPr>
          <a:xfrm>
            <a:off x="1981080" y="3657600"/>
            <a:ext cx="1667160" cy="137160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0" y="350532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Handwriting"/>
              </a:rPr>
              <a:t>Gray Wolf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9" name=""/>
          <p:cNvSpPr/>
          <p:nvPr/>
        </p:nvSpPr>
        <p:spPr>
          <a:xfrm>
            <a:off x="2438280" y="624852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Handwriting"/>
              </a:rPr>
              <a:t>Elk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0" name=""/>
          <p:cNvSpPr/>
          <p:nvPr/>
        </p:nvSpPr>
        <p:spPr>
          <a:xfrm>
            <a:off x="4343400" y="48006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Handwriting"/>
              </a:rPr>
              <a:t>Fox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2762280" y="0"/>
            <a:ext cx="3181320" cy="251460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/>
          <p:nvPr/>
        </p:nvSpPr>
        <p:spPr>
          <a:xfrm>
            <a:off x="2362320" y="304920"/>
            <a:ext cx="457200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Franklin Gothic Book"/>
              </a:rPr>
              <a:t>Grassland Biome</a:t>
            </a:r>
            <a:endParaRPr b="0" lang="en-US" sz="4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"/>
          <p:cNvSpPr/>
          <p:nvPr/>
        </p:nvSpPr>
        <p:spPr>
          <a:xfrm>
            <a:off x="45720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15800" indent="-38088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Font typeface="Wingdings 2" charset="2"/>
              <a:buChar char=""/>
              <a:tabLst>
                <a:tab algn="l" pos="415800"/>
                <a:tab algn="l" pos="873000"/>
                <a:tab algn="l" pos="1330200"/>
                <a:tab algn="l" pos="1787400"/>
                <a:tab algn="l" pos="2244600"/>
                <a:tab algn="l" pos="2701800"/>
                <a:tab algn="l" pos="3159000"/>
                <a:tab algn="l" pos="3616200"/>
                <a:tab algn="l" pos="4073400"/>
                <a:tab algn="l" pos="4530600"/>
                <a:tab algn="l" pos="4987800"/>
                <a:tab algn="l" pos="5445000"/>
                <a:tab algn="l" pos="5902200"/>
                <a:tab algn="l" pos="6359400"/>
                <a:tab algn="l" pos="6816600"/>
                <a:tab algn="l" pos="7273800"/>
                <a:tab algn="l" pos="7731000"/>
                <a:tab algn="l" pos="8188200"/>
                <a:tab algn="l" pos="8645400"/>
                <a:tab algn="l" pos="9102600"/>
                <a:tab algn="l" pos="95598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0 years ago a lot of grass lands got turned into farm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15800" indent="-38088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Font typeface="Wingdings 2" charset="2"/>
              <a:buChar char=""/>
              <a:tabLst>
                <a:tab algn="l" pos="415800"/>
                <a:tab algn="l" pos="873000"/>
                <a:tab algn="l" pos="1330200"/>
                <a:tab algn="l" pos="1787400"/>
                <a:tab algn="l" pos="2244600"/>
                <a:tab algn="l" pos="2701800"/>
                <a:tab algn="l" pos="3159000"/>
                <a:tab algn="l" pos="3616200"/>
                <a:tab algn="l" pos="4073400"/>
                <a:tab algn="l" pos="4530600"/>
                <a:tab algn="l" pos="4987800"/>
                <a:tab algn="l" pos="5445000"/>
                <a:tab algn="l" pos="5902200"/>
                <a:tab algn="l" pos="6359400"/>
                <a:tab algn="l" pos="6816600"/>
                <a:tab algn="l" pos="7273800"/>
                <a:tab algn="l" pos="7731000"/>
                <a:tab algn="l" pos="8188200"/>
                <a:tab algn="l" pos="8645400"/>
                <a:tab algn="l" pos="9102600"/>
                <a:tab algn="l" pos="95598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ees are not usually found I this biome because it dose not get a lot of wat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15800" indent="-38088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Font typeface="Wingdings 2" charset="2"/>
              <a:buChar char=""/>
              <a:tabLst>
                <a:tab algn="l" pos="415800"/>
                <a:tab algn="l" pos="873000"/>
                <a:tab algn="l" pos="1330200"/>
                <a:tab algn="l" pos="1787400"/>
                <a:tab algn="l" pos="2244600"/>
                <a:tab algn="l" pos="2701800"/>
                <a:tab algn="l" pos="3159000"/>
                <a:tab algn="l" pos="3616200"/>
                <a:tab algn="l" pos="4073400"/>
                <a:tab algn="l" pos="4530600"/>
                <a:tab algn="l" pos="4987800"/>
                <a:tab algn="l" pos="5445000"/>
                <a:tab algn="l" pos="5902200"/>
                <a:tab algn="l" pos="6359400"/>
                <a:tab algn="l" pos="6816600"/>
                <a:tab algn="l" pos="7273800"/>
                <a:tab algn="l" pos="7731000"/>
                <a:tab algn="l" pos="8188200"/>
                <a:tab algn="l" pos="8645400"/>
                <a:tab algn="l" pos="9102600"/>
                <a:tab algn="l" pos="95598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can find wolfs in lightly populated packs her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15800" indent="-380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15800"/>
                <a:tab algn="l" pos="873000"/>
                <a:tab algn="l" pos="1330200"/>
                <a:tab algn="l" pos="1787400"/>
                <a:tab algn="l" pos="2244600"/>
                <a:tab algn="l" pos="2701800"/>
                <a:tab algn="l" pos="3159000"/>
                <a:tab algn="l" pos="3616200"/>
                <a:tab algn="l" pos="4073400"/>
                <a:tab algn="l" pos="4530600"/>
                <a:tab algn="l" pos="4987800"/>
                <a:tab algn="l" pos="5445000"/>
                <a:tab algn="l" pos="5902200"/>
                <a:tab algn="l" pos="6359400"/>
                <a:tab algn="l" pos="6816600"/>
                <a:tab algn="l" pos="7273800"/>
                <a:tab algn="l" pos="7731000"/>
                <a:tab algn="l" pos="8188200"/>
                <a:tab algn="l" pos="8645400"/>
                <a:tab algn="l" pos="9102600"/>
                <a:tab algn="l" pos="95598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3143160" y="2000160"/>
            <a:ext cx="2857680" cy="28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tretch/>
        </p:blipFill>
        <p:spPr>
          <a:xfrm>
            <a:off x="487440" y="3884760"/>
            <a:ext cx="3400200" cy="274320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3"/>
          <a:stretch/>
        </p:blipFill>
        <p:spPr>
          <a:xfrm>
            <a:off x="3657600" y="3657600"/>
            <a:ext cx="2286000" cy="192420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/>
          <p:nvPr/>
        </p:nvSpPr>
        <p:spPr>
          <a:xfrm>
            <a:off x="3657600" y="5257800"/>
            <a:ext cx="2286000" cy="685800"/>
          </a:xfrm>
          <a:prstGeom prst="roundRect">
            <a:avLst>
              <a:gd name="adj" fmla="val 231"/>
            </a:avLst>
          </a:prstGeom>
          <a:solidFill>
            <a:srgbClr val="4c1900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02T18:21:34Z</dcterms:created>
  <dc:creator>KH3597</dc:creator>
  <dc:description/>
  <dc:language>en-US</dc:language>
  <cp:lastModifiedBy>KH3597</cp:lastModifiedBy>
  <dcterms:modified xsi:type="dcterms:W3CDTF">2012-11-13T19:24:18Z</dcterms:modified>
  <cp:revision>13</cp:revision>
  <dc:subject/>
  <dc:title>BIOMES</dc:title>
</cp:coreProperties>
</file>